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8.gif" ContentType="image/gif"/>
  <Override PartName="/ppt/media/image4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4C21-3093-4413-9193-800B30C0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B5D-60F5-4AD5-BFBB-7D702082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173-DC30-41F1-AEDB-A88D3024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B347-6DA6-4A5D-BE5D-434DDBC8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02A-3AD9-49DA-B54D-C9EDCD4E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02C-FEFD-466D-8010-83E525EF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D3DF-2C9C-450C-9E1C-0E91B16E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542-ABDD-4383-9B7C-1B182A40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39D7-D4D3-496C-A2A8-608406BD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746-9E4C-468B-A055-F9D71F33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4F1-20A1-4A07-B00A-E95D809F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EDAF-98EF-4EEE-A3B7-BABCDD4E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75F5-B20B-4709-AB8E-9AC0A3AB95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graaf 2.3 Kunnen aardbevingen overal gebeu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werkt een aardbe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ardbev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een trilling in een deel van de aardko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 op de schaal van Richt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‘alles is verwoest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Ontstaan aardbevingen ook bij randen van pla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na alle aardbevingen ontstaan op plaatsen waar platen tegen elkaar botsen of waar ze langs elkaar schu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2441" t="22222" r="0" b="11528"/>
          <a:stretch/>
        </p:blipFill>
        <p:spPr>
          <a:xfrm>
            <a:off x="250920" y="1916280"/>
            <a:ext cx="8610480" cy="4708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laten schuiven langs elka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meest bekende is de San Andreas breuk in Californië.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5105520"/>
            <a:ext cx="609480" cy="3808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410080"/>
            <a:ext cx="304920" cy="1143000"/>
          </a:xfrm>
          <a:custGeom>
            <a:avLst/>
            <a:gdLst>
              <a:gd name="textAreaLeft" fmla="*/ 40680 w 304920"/>
              <a:gd name="textAreaRight" fmla="*/ 264240 w 3049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9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4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wee ´continentale´ platen botsen hier opelkaar.</a:t>
            </a:r>
            <a:br>
              <a:rPr sz="40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ntstaan van het Himalayageber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79840" y="2349360"/>
            <a:ext cx="2540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36604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en drijven uit elka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1801" t="0" r="0" b="0"/>
          <a:stretch/>
        </p:blipFill>
        <p:spPr>
          <a:xfrm>
            <a:off x="468360" y="1635120"/>
            <a:ext cx="8207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 zware ´oceanische´ plaat duikt onder de lichtere ´continentale´ pl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1841400"/>
            <a:ext cx="842472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Waar ontstaan nog meer aardbevingen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alle aardbevingen ontstaan aan de randen van pla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k in Nederland lopen kleine breuken waar een aardbeving kan plaatsvin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921200" y="1600200"/>
            <a:ext cx="3492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ok in Nederland komen aardbevingen v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ermond 199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8 Schaal van Rich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ot in Tsjechie was deze aardbeving voel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be (Japan) 20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sten en slen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r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het deel dat omhoog wordt geduw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en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het deel dat wegz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Horsten en slenken"/>
          <p:cNvPicPr/>
          <p:nvPr/>
        </p:nvPicPr>
        <p:blipFill>
          <a:blip r:embed="rId1"/>
          <a:stretch/>
        </p:blipFill>
        <p:spPr>
          <a:xfrm>
            <a:off x="1835280" y="2852640"/>
            <a:ext cx="5184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ardbevingen veroorzaakt door de me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r winning van delfstoffen zoals steenkool of aard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76720" y="3068640"/>
            <a:ext cx="2880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559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pocentr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de plek waar de trillingen beg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Epicentr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de plek aan het aardoppervlak waar de aarbeving het sterks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3068640"/>
            <a:ext cx="3095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296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schaal van Ri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de kracht van een aardbeving die we op een schaal van 1 tot en met 9 aange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op de Schaal van Richter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‘alles blijft staan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op de schaal van Richt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‘stoelen vallen om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 op de schaal van Richter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‘gebouwen storten in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19:02:16Z</dcterms:created>
  <dc:creator>Piet</dc:creator>
  <dc:description/>
  <dc:language>en-US</dc:language>
  <cp:lastModifiedBy>Piet Meijer</cp:lastModifiedBy>
  <dcterms:modified xsi:type="dcterms:W3CDTF">2005-06-13T13:34:07Z</dcterms:modified>
  <cp:revision>15</cp:revision>
  <dc:subject/>
  <dc:title>Paragraaf 2.3 Kunnen aardbevingen overal gebeuren?</dc:title>
</cp:coreProperties>
</file>